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60F-4E8A-4D8C-B725-F7183DF6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1CD-1730-4526-AB28-23D0FAA1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17C-5032-43E1-8C1A-D22641FA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ECF-7768-4524-BA67-1CC1602D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050D-DCA8-4510-A5C6-198A528D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7F71-DDFA-4DA1-A115-453452C3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6992-190E-4970-A4E2-06811820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43A4-B66D-4267-8E6D-A17B5EF9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C9A-B767-456C-8006-6003E10B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C32B-A843-4F64-9843-39147AD7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284-CCCC-44ED-A677-B9C2CA6C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77E-B887-414F-8018-899873B6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BA05-581D-4184-82FC-AC56968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2FB5-34D0-4AA8-8466-EDE01E84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60CD-C9E2-4340-85FF-C958B6C0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2179-99FA-46F7-AF44-9A18ED52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2AA0-079F-4014-8FED-D34E26AE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642-FB0A-4311-BF8E-4E453A94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705-5B98-4F93-B8A8-79AEBC7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567-5101-4D9E-A458-C0A2569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20B-C329-49AD-ABF2-89B87578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022-9EF9-4F97-85F1-6A68098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BDD-297D-4157-9E84-3D5DA51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0CA-BCD4-48FD-B948-407EA329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63C6-A158-400C-A40C-DE58ACE8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7594-C728-4CE5-8619-49480CE61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eshme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story-pg. 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s recipe says to use 2 T. of chili powder and 6 handsful of rice but both of my brother in laws like xtra chili powder and less 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e:raisin::plum: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:Seek::Flail: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swer Ke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mother’s recipe says to use two tablespoons of chili powder and 6 handfuls of rice, but both of 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s-in-law like extra chili powder and less 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5:59:59Z</dcterms:created>
  <dc:creator>VMS</dc:creator>
  <dc:description/>
  <dc:language>en-US</dc:language>
  <cp:lastModifiedBy>Angie McCall</cp:lastModifiedBy>
  <dcterms:modified xsi:type="dcterms:W3CDTF">2011-09-16T13:40:01Z</dcterms:modified>
  <cp:revision>3</cp:revision>
  <dc:subject/>
  <dc:title>Freshmen</dc:title>
</cp:coreProperties>
</file>